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2FC-114A-4208-A933-D507F36B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AB7-5981-40F6-B677-D1B222ED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57885-46D3-4C94-A969-F907AFA9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1F951-39A9-48C4-9F80-95A63D43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2EA16-242B-4A21-A95B-331B7149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464AD-7B2D-42F8-A0C3-16E70094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AFE08-51A7-4A07-A441-C0D0B72C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4A768-F41F-4174-9A30-078C6EE8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FEF47-5F7F-4375-B589-E1A7F7D1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6F3CE-06D6-48F0-9A5C-FC28F2B0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1EC16-C558-497E-8DD5-E8E7E73D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661ED-809A-4C79-A10D-14DC4C8B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B0A-C74F-441D-BD31-C44CA5D1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205B3-2DE1-420C-BF89-CAB98E9B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DE508-59CD-4A05-8E2D-43EF6B1B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F7300-6318-4821-890E-C784B882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8E000-EA7C-4E0C-AE80-6F0B6B33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AF36B-E877-4F33-812F-717279BD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1E5BE-619A-413A-A356-CAA8E6DF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A742F-D441-4E11-99B3-D1090809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17AF0-4634-4070-8DBE-4B42DB83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16C78-E391-4A98-8D54-C39AD3D1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57D42-0448-4D25-A653-704A8110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42E-E2F8-4293-8D13-0ABB1EBB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0C2E7-9562-4BC4-897A-940C09A3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B742E-26A3-41E6-811B-4181A5F2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10180-B511-473D-917F-97E3094D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04B17-4810-48B8-BF56-00564DA8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1C1AE-7C61-4F3B-B420-54941112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D6538-52E7-4E65-AF0B-BCAB1925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43562-6E0E-4B1B-AB11-96103D14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1669A-D582-45EA-B023-1B0A2E46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CB5A2-A617-4D30-B8F1-B02F9C8D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CC084-F27A-487C-BFC4-B9A84A9F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9A42-49F1-48BA-8779-B299BEB8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D1354-F668-4301-B20B-8D12FC74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97E38-6BE5-46C1-809B-2D212CE1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1BC1E-777B-41ED-B678-DE78CAEE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47463-115E-472C-A503-B59E101C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40D9B-4D13-4A84-845E-08D53D60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8E508-B4F8-465E-B2B6-43B48033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1205D-2567-438A-9840-32A25E1A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18DA8-64E3-4201-A652-42FDB79C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8F5DD-1E8F-4ADF-A8A7-C3F655DA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CEB25-2AB3-4BEE-A2D0-07043351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5980-6E17-4EB8-9506-08374DFA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0833F-2C77-447F-A822-5D039B20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4DEF1-DA06-412B-A80E-1B584F07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DB4E3-6170-40E5-806A-276482F7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E6558-8491-4C36-8A22-0CD55F99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6C9E8-D6CC-40B0-894D-C5A5660D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59C3B-5B05-4C7D-AAF2-DC9335C1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45F18-22B7-4187-B80D-7EC9418F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47E22-D2E2-4CDF-9438-6D58C458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5E159-BD24-4F35-8CD7-4B94BC60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DCFFD-2EFC-4DFC-AAE5-A9075D3B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348F-B72A-44ED-A105-F1872195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1ACDC-0A49-4B61-818D-AED8C18F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068BD-FED4-4F60-A95A-0A74EB95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23314-4FD2-4CF3-BE32-D8621B5D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F98A5-EB3A-4FC9-83BD-E9B8E1CD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9808E-206A-44F5-9F97-335AA688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62C66-0D0A-4BFB-9B2C-BDD16C3A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3BBD4-3DB5-443B-B375-62EBE1F8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B201A-2567-4348-AA2D-E61D68AA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A9FA4-08A4-4A28-B2AA-2EA7AA3C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F1853-24F0-4F6E-8FB2-6B5EFF26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A8FF-728B-4306-ADAF-8B081935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D7EC3-1A67-4D1F-B442-573CCF76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15091-9134-4D37-8F18-EEA3F965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3C10E-DC0E-470E-85F2-A5F9888F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C1E52-F291-4680-B0DE-E7B11B28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5082E-D921-465F-AFC4-3C720F0E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0A127-3D46-4EB1-B13D-FC7B8954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4A7B2-7B8F-48B7-A854-FA36C1B3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E8D3F-1068-4B29-84F4-D9CAC985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BD9A67-0A96-477B-A047-3B2CA800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560861-3DC4-4AE0-93C2-82E9C30C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69CF-3588-46D8-ABCF-A9F96B57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62136-3B7D-41EB-90F5-05E219BB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4D0865-2167-4C11-9DB9-F08C1391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A8B70-A14C-4F87-8C9F-3DBB83B5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4EAB5B-DA66-4437-A607-98309CE6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370F54-AF45-49B4-AB03-E760FF12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942E83-989F-4CAD-B949-8D7A039D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F6527B-5AC8-454C-88FF-9FAB3B42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4D0830-CC54-4F7F-A7BC-5F655A47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B8F2D-E356-41DA-B21C-82F6DA2B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6D28E-93C0-4A86-AD99-E2D50CDF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A614-3935-40B2-ABEE-D76B1756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CDF36-DF78-4E86-97EC-7DCECC14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6414-2368-4F63-BC8E-7E1D56A6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CDE-CF60-423D-8BEA-A6CBC93D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8271-4A81-4971-A1EE-A032268F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7567-92C2-4991-BB64-85871DC7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C342-E37D-45FA-94ED-0F7AE69B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9CB5-BD0D-4331-9289-2AC7C16F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51C1-A8B5-495D-8582-E460352A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094B-AF2E-4BD5-9131-5004E67E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EB328-DD04-464C-B823-3403449E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91B67-B944-4003-A4EE-9FE50DDF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32B0D-3C93-4C3D-A027-417CA1A2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2D30A-FA3A-46B5-A1AD-C21C24BE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7CC-4CA2-47CB-A70F-64966CC6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069B6-AABF-44D5-82B6-66C0579D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A09E-AE5B-486F-9FF9-E22A33DA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F5D5-F148-416B-9E68-7AECB744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FCAE6-68D2-4D51-A5CF-E7BF103D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AE01B-F8E5-485E-8A03-743340DB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A4886-2D66-46EB-9134-5A1E68C4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337F9-845C-4704-A415-6A374E89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8758B-F81C-4C5E-88E7-3409DF1F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B3888-6097-48B4-AD42-C3B4E648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A641-3190-4FE9-8EF3-E63A301A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74E-1351-49B3-920A-E7CEEFB5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8DB35-D664-4C98-88E9-65639DEE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34371-D8D6-4F4A-8D8E-694279D6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4AC8F-BA8D-47D5-8DD3-E47EAEEE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94EFD-B247-43BC-B1D8-B4FC6DE0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53106-7B7B-4D54-9EC2-68CAF718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04847-D86D-487C-A2DC-046594A9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713D0-7D27-47A4-8B82-A0A41ECC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FE6D8-ECA5-401A-AF3E-B2C903AB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DDA28-2BA9-47CC-BF52-ED577CBE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8A3EB-7F51-43C6-AAD0-D56B34EA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B44-CB73-4DF3-9608-9A71238A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E6F77-8CC9-48E1-9E9E-234C4973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B7D70-6094-42A1-A6D2-E73DDD17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1EF96-34A0-47CE-8B33-4796D401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9D24B-230D-4AB5-8322-9D28B8D2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1928E-4C5C-44A6-9CF4-1DD23401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87511-B823-4CA8-A12A-27A3D71F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7B038-64DA-4A8D-8505-FBB24C33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93466-DCF7-4D70-B5D6-99E5F3C1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34063-7B82-4A0E-9D75-0D2C0D5B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2B6E5-B664-4F0C-9545-26A68987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97E-1727-4680-95E9-09CCF8A7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444FE-B9DF-4408-8AA2-783D1818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E791A-90BD-4554-B560-F196B38D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E6C07-AE3B-4C2C-9DD9-CD87082B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85435-1C2D-4230-9991-A4DB166F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8A91A-B07D-406F-9456-B4C90DD6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A5612-82AD-43B9-B399-61FE4FD4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94C3B-7C60-4780-80C6-66061B87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71A2F-DA54-4ADA-B5D4-D38F1E8C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80440-E80A-428F-A4BD-7F9F9FB5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A2309-5654-4E5D-AF1B-C2ED9E22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6E6-F015-472B-85D7-AE21CE20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D89EE-BCD9-448A-89C0-F72535BA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8E5BE-774D-4A5B-BEBC-56190471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9F639-26CA-44BF-9D0A-5CF149A9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6D260-9645-4C47-9621-E37D1265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B5C1F-5E98-4D9A-8920-17AD623B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CF1CA-845E-4AB1-880E-3C13F958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4DC87-40CD-464F-8476-29FE9E65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22133-09C0-434B-AABD-6634C258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790BB-FD7C-410F-8762-046DDF65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19DE5-3377-4F21-B9DF-DA8B5603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652-096B-4BC9-BA39-090BA10F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96D7E-26C7-4107-A205-CA9218BD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6FA5A-2220-42FC-8100-AF0D300C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4E9F5-BA30-4C9C-849C-D980C0D6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E71D1-A4EB-45B6-B8A9-ADB0ACDF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6DE3F-FB4F-4BE1-B5C3-67530467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A5616-E674-4EB8-A053-3E99F3EC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19131-050F-41EC-91AE-A9FA1DE3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36DFE-4B20-4B11-BDEF-425E559C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2C0B7-D49B-4A62-9B14-AFE0B010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519BC-55B1-4DFE-89D3-F8FDD306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8AF-06B6-412F-984A-FD98CE23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E0066-61EC-4EA2-9A62-C00172E9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80BCC-0093-4003-A551-60CC44AF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136F5-F268-4B98-B93D-0A441FD8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9BA8D-4DA4-42F6-B216-7F10015C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FFBF7-60F7-4A37-8337-300CAE50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04FCB-2DA5-4739-815C-822A47E4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057EB-B4D5-4791-8293-645EF301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42D18-AF02-41A9-9585-C2E110DA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19290-8ACE-4283-ABBE-BD18E695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2450C-5CAC-4DF5-8AB6-87740CFC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80430-57F2-4D10-83C2-9B826BB14174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84C11-6ABA-49E5-B02C-B6D6246F2FE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D643A-E555-490A-A582-7CE6FC0AA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000000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DC01B-53C2-4996-801A-5FC0DC2ABB48}" type="slidenum">
              <a:rPr b="0" lang="en-US" sz="3600" spc="-1" strike="noStrike">
                <a:solidFill>
                  <a:srgbClr val="000000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8894F-1646-42AA-9521-FED7DDA119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000000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E95FF-E999-4AB4-85A4-56E8E039ABF5}" type="slidenum">
              <a:rPr b="0" lang="en-US" sz="3600" spc="-1" strike="noStrike">
                <a:solidFill>
                  <a:srgbClr val="000000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B6199-47A5-4E73-B679-3D85FAD201F0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74D6C-3456-4C99-8D14-0A5681D1F6E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4DECD-F1A4-47D4-8679-29EDC333F3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564F7-19EE-42D4-801B-354ABAAEA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F467E-680D-40A5-85B4-F999270EB57B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DEC05-DB34-4088-86DE-B3675E66701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48083D-B612-4D4B-A816-808E0EE45B4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54ECF-3AD1-4C7B-8655-7CAADD3DDCE4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14A6A-705C-4C17-9A1F-B96FE29C5CD0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90931-1470-4B35-9A83-578EC1A78E6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16737-C5F9-4B1F-A104-CA8DB0869BE3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CAE0A-8822-4FCF-B154-EAE48EFD2F4C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78AF7-40F1-4EA8-9965-9AA28AE93025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5BA25-8802-4430-BB27-293B6DA3E77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3914A-1AF2-4A36-A16B-2F74C0A5E077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4A87B-B257-4BDE-8544-D42E5404CA9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44611-1964-4955-A3F9-228DB5149E2F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D0175-3CBD-4499-9577-0E501D73A7B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BAEFC-898E-4C20-A77A-C7079D9DA6B2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F607F-B30A-44BD-9AD8-750120270E8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362C7-253F-456E-88D2-7070C88D84A2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D98B7-64D4-411E-B9A6-4547D55D8FC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EC1AA-7A71-42FC-964A-83E82DBAFAB7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28A09-10EE-4AA3-B2EB-F179357849B0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79040" y="1917360"/>
            <a:ext cx="7583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Lifting and moving patient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779040" y="3478320"/>
            <a:ext cx="758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Stop and Review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1080" indent="-27108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1.What is the most common source of back injuries?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71080" indent="-27108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2.What is defined as the proper or most efficient way to perform physical activity?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71080" indent="-27108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3.It is always better to __________ rather than __________.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71080" indent="-27108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4.Proper lifting requires: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54400" indent="-28332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A. Lifting with the _____________ 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54400" indent="-28332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B. Bending at the _____________ 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54400" indent="-28332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C. Keeping the back ___________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. Back Injurie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Anatomy review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1. Lumbar spine bears weight of body; 85% of back injuries occur there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2. Discs between vertebrae may deteriorate, move, or slip out of place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3. Injuries can result from improper lifting and carrying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43" name="Picture 3" descr="safety.jpg"/>
          <p:cNvPicPr/>
          <p:nvPr/>
        </p:nvPicPr>
        <p:blipFill>
          <a:blip r:embed="rId2"/>
          <a:stretch/>
        </p:blipFill>
        <p:spPr>
          <a:xfrm>
            <a:off x="3521160" y="4135320"/>
            <a:ext cx="1995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. Back Injurie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Back care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1. Most common source of back injuries is twisting while lifting an object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2. Key to a strong back is exercise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3. To prevent injury, warm up the lower back before each tour of duty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46" name="Picture 3" descr="stretch.jpg"/>
          <p:cNvPicPr/>
          <p:nvPr/>
        </p:nvPicPr>
        <p:blipFill>
          <a:blip r:embed="rId2"/>
          <a:stretch/>
        </p:blipFill>
        <p:spPr>
          <a:xfrm>
            <a:off x="4851360" y="3857760"/>
            <a:ext cx="29084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. Back Injurie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. Know your limitations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1. Two key questions 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a. Is there enough help to lift this patient?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sto MT"/>
              </a:rPr>
              <a:t>One individual should be able to lift 125 lbs! </a:t>
            </a: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b. Is the right equipment being used?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sto MT"/>
              </a:rPr>
              <a:t>Be sure to factor in that weight too!</a:t>
            </a: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2. Failure to answer the questions correctly can cause injury to the patient or healthcare worker.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. Back Injurie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D. Safety firs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1. Back support braces 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a. Must be worn correctly 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b. Must fit correctly 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2. Proper footwear 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a. Closed-toe shoes or boots 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b. Soles should be nonskid 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c. Mid-calf boots provide support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51" name="Picture 3" descr="back brace.jpg"/>
          <p:cNvPicPr/>
          <p:nvPr/>
        </p:nvPicPr>
        <p:blipFill>
          <a:blip r:embed="rId2"/>
          <a:stretch/>
        </p:blipFill>
        <p:spPr>
          <a:xfrm>
            <a:off x="6161040" y="237636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I. Body Mechanic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A. Defined: The proper or most efficient way to perform physical activities.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B. The primary goal is to lift and carry without injury to spine.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54" name="Picture 3" descr="body mechanics.jpg"/>
          <p:cNvPicPr/>
          <p:nvPr/>
        </p:nvPicPr>
        <p:blipFill>
          <a:blip r:embed="rId2"/>
          <a:stretch/>
        </p:blipFill>
        <p:spPr>
          <a:xfrm>
            <a:off x="2693880" y="3289320"/>
            <a:ext cx="56689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I. Body Mechanic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. Reaching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1. Never twist and arch the back backward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2. Never reach more than18 inches away from the body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3. Keep elbows close to the body and never farther out than the knees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4. Bend at the knees while keeping the back straight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57" name="Picture 3" descr="back pain.jpg"/>
          <p:cNvPicPr/>
          <p:nvPr/>
        </p:nvPicPr>
        <p:blipFill>
          <a:blip r:embed="rId2"/>
          <a:stretch/>
        </p:blipFill>
        <p:spPr>
          <a:xfrm>
            <a:off x="6973920" y="4302000"/>
            <a:ext cx="19382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I. Body Mechanic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D. Lifting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1. The power lift 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Utilizes the stronger muscles of the leg instead of the weaker muscles of the lower back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The closer the body’s center of gravity is to the object, the more powerful the lift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The feet are the foundation of the power lift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2. The power grip 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Palms-up grasp utilizes powerful arm muscles 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The arms should be </a:t>
            </a:r>
            <a:r>
              <a:rPr b="0" i="1" lang="en-US" sz="2000" spc="-1" strike="noStrike">
                <a:solidFill>
                  <a:srgbClr val="333333"/>
                </a:solidFill>
                <a:latin typeface="Calisto MT"/>
              </a:rPr>
              <a:t>locked out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I. Body Mechanic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E. Carrying: keep back straight and balance load if on one shoulder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. Always try to push rather than pull.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62" name="Picture 3" descr="emt bag.jpg"/>
          <p:cNvPicPr/>
          <p:nvPr/>
        </p:nvPicPr>
        <p:blipFill>
          <a:blip r:embed="rId2"/>
          <a:stretch/>
        </p:blipFill>
        <p:spPr>
          <a:xfrm>
            <a:off x="5097600" y="3276720"/>
            <a:ext cx="36446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20:34:37Z</dcterms:created>
  <dc:creator>Lauren Wehunt</dc:creator>
  <dc:description/>
  <dc:language>en-US</dc:language>
  <cp:lastModifiedBy>Lauren Wehunt</cp:lastModifiedBy>
  <dcterms:modified xsi:type="dcterms:W3CDTF">2012-08-26T20:54:24Z</dcterms:modified>
  <cp:revision>1</cp:revision>
  <dc:subject/>
  <dc:title>Lifting and moving patients</dc:title>
</cp:coreProperties>
</file>